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23E-3C9D-4D90-8B4B-7679AD9D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F99-B300-4432-8B5D-C2B6FC06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9BF-EFE4-4F11-B934-C299A2FA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FA7-FDFF-437F-83DE-A504D7E8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58B3-2FAB-4322-8C44-8D5E8363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CEFA-8E6E-4834-B6C8-1C316A38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5379-0380-4CE1-A360-596ED128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091F-5844-4ED1-B1A8-093FCF84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D2B5-284A-486C-8FDF-7CB5CEF9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C01B-2789-4C65-848E-37D5EBEC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EC28-C177-402A-AFF1-2D260422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4FC-E174-4267-89E3-5FCFE67C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C2C4-A3A4-4D45-AF8F-6F89AB3B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CA87-7596-42DB-8A35-5E6CD75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D5CE-9501-4BA8-9278-A5E450DB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24C2-E007-418B-BA27-F30C057C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D03D-6029-47D3-A15C-AEF0D240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ADA-B0ED-4CA2-8E28-8DE268B5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A7D-2536-4DBA-ABAC-8C3671CB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AE4-BC4A-4B21-85AF-1824EFEF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BD5-6FDB-4839-AE54-574AA779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5B9-E393-4A7B-85D7-1AA541CE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2E0-53C8-4BF6-B2AD-8FA8B67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60B-F171-4450-91B2-A9E06762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3C0E-2C95-4346-A945-5D61F39F700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686C-E3F6-4EA0-B163-FFAD7CCAF00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627280" y="1268280"/>
            <a:ext cx="460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宋体-方正超大字符集"/>
              </a:rPr>
              <a:t>目标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宋体-方正超大字符集"/>
              <a:ea typeface="宋体-方正超大字符集"/>
            </a:endParaRPr>
          </a:p>
        </p:txBody>
      </p:sp>
      <p:sp>
        <p:nvSpPr>
          <p:cNvPr id="96" name=""/>
          <p:cNvSpPr/>
          <p:nvPr/>
        </p:nvSpPr>
        <p:spPr>
          <a:xfrm>
            <a:off x="3255840" y="4473720"/>
            <a:ext cx="54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指引我成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340000" y="2492280"/>
            <a:ext cx="44640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如何实现目标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?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83040" y="0"/>
            <a:ext cx="674460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　　　　　目标要明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有一位父亲带着三个孩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沙漠去猎杀骆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目的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亲问老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看到了什么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大回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了猎枪、骆驼还有一望无际的沙漠。”父亲摇摇头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亲以相同的问题问老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二回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看到了爸爸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哥、弟弟，猎枪、骆驼还有一望无际的沙漠。”父亲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摇摇头说：“不对。”父亲又以相同问题问老三。老三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“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看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骆驼。”父亲高兴地点点头说：“答对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故事告诉我们：一个人若想走上成功之路，首先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须有明确的目标。目标一经确立后，就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心无旁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集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精力，勇往直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启示：明确的目标是成功的关键，盯住它不能有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毫的放松，可以减少很多对成功的障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49360"/>
            <a:ext cx="9144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分段实现大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在东京国际马拉松邀请赛中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不见经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日本选手山田本一出人意外地夺得了世界冠军。当记者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凭什么取得如此惊人的成绩时，他说了这么一句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智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战胜对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时许多人都认为这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偶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跑到前面的矮个子选手是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故弄玄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马拉松赛是体力和耐力的运动，只要身体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好又有耐性就有望夺冠，爆发力和速度都还在其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用智慧取胜确实有点勉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年后，意大利国际马拉松邀请赛在意大利北部城市米兰举行，山田本一代表日本参加比赛。这一次，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获得了世界冠军。记者又请他谈经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60280"/>
            <a:ext cx="856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田本一生性木讷，不善言谈，回答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仍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次那句话：用智慧战胜对手。这回记者在报纸上没再挖苦他，但对他所谓的智慧迷惑不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后，这个谜终于被解开了，他在自传中是这么说的：每次比赛之前，我都要乘车把比赛的线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仔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看一遍，并把沿途比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醒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标志画下来，比如第一个标志是银行；第二个标志是一棵大树；第三个标志是一座红房子……这样一直画到赛程的终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赛开始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就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百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速度奋力地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个目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冲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到我到达第一个目标后，我又以同样的速度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二个目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冲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公里的赛程，就被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这么几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目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轻松地跑完了。起初，我并不懂这样的道理，我把我的目标定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公里外终点线上的那面旗帜上，结果我跑到十几公里时就疲惫不堪了，我被前面那段遥远的路程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吓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25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启示：在现实中，我们做事之所以会半途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废，这其中的原因，往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是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因为难度较大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而是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觉得成功离我们较远，确切地说，我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是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因为失败而放弃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而是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因为倦怠而失败。在人生的旅途中，我们稍微具有一点山田本一的智慧，一生中也许会少许多懊悔和惋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95640" y="40464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我的毕业目标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050920" y="3357720"/>
            <a:ext cx="5040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我的第一个月目标？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771640" y="1989000"/>
            <a:ext cx="324180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八个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050920" y="5300640"/>
            <a:ext cx="554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德、智、体、美、劳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32000" y="836640"/>
            <a:ext cx="2521080" cy="8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认真制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03640" y="2637000"/>
            <a:ext cx="2448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认真总结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76720" y="4292640"/>
            <a:ext cx="230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认真改进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2276640"/>
            <a:ext cx="62658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做一个最好的自己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95640" y="40464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我的毕业目标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050920" y="3357720"/>
            <a:ext cx="5040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我的第一个月目标？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71640" y="1989000"/>
            <a:ext cx="324180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八个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50920" y="5300640"/>
            <a:ext cx="554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德、智、体、美、劳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47640" y="2205000"/>
            <a:ext cx="5905800" cy="19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高三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,</a:t>
            </a: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意味着什么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68360" y="2349360"/>
            <a:ext cx="4608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我的毕业目标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979640" y="2924280"/>
            <a:ext cx="496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人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,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为何需要目标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?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看不到目标比死还可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位军阀每次处决死刑犯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会让犯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选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枪毙命或是选择从左墙的一个黑洞进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运未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犯人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宁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一枪毙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也不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入那个不知里面有什么东西的黑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酒酣耳热之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军阀显得很开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旁人很大胆地问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可不可以告诉我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这黑洞走进去究竟会有什么结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什么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实走进黑洞的人只要经过一两天的摸索便可以顺利地逃生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们只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敢面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可知的未来罢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军阀回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启示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目标能给人希望和力量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人生如果没有目标就等于一具行尸走肉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11280" y="2637000"/>
            <a:ext cx="4105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目标有什么用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?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9000"/>
            <a:ext cx="914400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目标指引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位女游泳选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发誓要成为世界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位横渡英吉利海峡的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达成这个目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不断地练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断地为这一历史性的一刻做准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天终于来临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选手充满自信地昂首阔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在众多媒体记者的注视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满怀信心地跃入大海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朝对岸英国的方向有力游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旅程刚开始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气非常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选手很愉快地向目标挺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随着越来越接近英国对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上起了浓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越来越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乎已到了伸手不见五指的程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36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选手处在芒芒大海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全失去了方向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晓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底还要多远才能上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越游越心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越来越筋疲力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她终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宣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弃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救生艇将她救起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才发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游一百多公尺就到岸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众人都为她惋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距离成功就那么近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对着众多的媒体大声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是我为自己找借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距离目标只剩一百多公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一定可以坚持到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目标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启示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目标是我们人生之舟的航向与明灯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没有它们的指引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们就无法达到成功的彼案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340000" y="1773360"/>
            <a:ext cx="41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如何制定目标？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05" name=""/>
          <p:cNvSpPr/>
          <p:nvPr/>
        </p:nvSpPr>
        <p:spPr>
          <a:xfrm>
            <a:off x="5289120" y="4076640"/>
            <a:ext cx="166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跳一跳，够得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0:27:2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17:05Z</dcterms:modified>
  <cp:revision>13</cp:revision>
  <dc:subject>主题班会课件(分28大类): http://shop62905894.taobao.com</dc:subject>
  <dc:title>主题班会课件(分28大类): http://shop62905894.taobao.com</dc:title>
</cp:coreProperties>
</file>